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BDAD-9B46-407D-A025-0B95C21917A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Blin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Jessie W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Jessie W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ly, there are three kinds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es (each one sensitive to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fic range of wavelengths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"red" cones (64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"green" cones (32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"blue" cones (2%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mal human retina contains two kinds of light sensitive cells: the rod cells (active only in low light) and the cone cells (active in normal daylight and responsible for color perception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there be light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fferent kinds of inherited color blindness result from partial or complete loss of function of one or more of the different cone systems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ly, there are three kinds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es (each one sensitive to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range of wavelengths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ed" cones (64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green" cones (32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blue" cones (2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rmal human retina contains two kinds of light sensitive cells: the rod cells (active only in low light) and the cone cells (active in normal daylight and responsible for color perceptio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re be light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t kinds of inherited color blindness result from partial or complete loss of function of one or more of the different cone system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Types of Color Blin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chromacy: occurs when two or all three of the cone pigments are missing and color and lightness vision is reduced to one dimens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color blin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chromacy: occurs when only one of the cone pigments is missing and color is reduced to two dimens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color blin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-g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ue-yel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Types of Colo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chromacy: occurs when two or all three of the cone pigments are missing and color and lightness vision is reduced to one dimens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colo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macy: occurs when only one of the cone pigments is missing and color is reduced to two dim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al colo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-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-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Color Blin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known as rod monochromacy, complete achromatopsia,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ical monochroma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are, non-progressive inability to distinguish any colors as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 of absent or nonfunctioning retinal co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everything as white, black, or some shade of gr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ically caused by a missense mutation (a switched amino acid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CNGB3 ge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Colo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 rod monochromacy, complete achromatopsia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monochroma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are, non-progressive inability to distinguish any colors as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absent or nonfunctioning retinal con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everything as white, black, or some shade of gr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ly caused by a missense mutation (a switched amino aci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NGB3 ge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IC NUCLEOTIDE-GATED CHANNEL, BETA-3 (CNGB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ic achromatopsia results from a complete loss of CNGB3 fun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NGB3 encodes for the beta subunit of the cone cyclic nucleotide-gated cation channel, found photoreceptor plasma membra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on activation by cGMP, it leads to an opening of cation channels which thereby cause a depolarization of rod photoreceptors. This gene is essential for the generation of light-evoked electrical responses in co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NGB3 is not required for vital processes outside the visual syst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IC NUCLEOTIDE-GATED CHANNEL, BETA-3 (CNGB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c achromatopsia results from a complete loss of CNGB3 fun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GB3 encodes for the beta subunit of the cone cyclic nucleotide-gated cation channel, found photoreceptor plasma membran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on activation by cGMP, it leads to an opening of cation channels which thereby cause a depolarization of rod photoreceptors. This gene is essential for the generation of light-evoked electrical responses in con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GB3 is not required for vital processes outside the visual syst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NGB3 C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human CNGB3 gene consists of 18 ex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stributed over 200 kb of genomic seque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e type: protein co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main: similar to ion transport prot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ytogenetic locus:  chromosome: 8; Location: 8q21-q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NGB3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human CNGB3 gene consists of 18 ex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tributed over 200 kb of genomic seque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ene type: protein co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omain: similar to ion transport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ytogenetic locus:  chromosome: 8; Location: 8q21-q2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mino acid sequ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ngth: 809 a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"MFKSLTKVNKVKPIGENNENEQSSRRNEEGSHPSNQSQQTTAQE                 ENKGEEKSLKTKSTPVTSEEPHTNIQDKLSKKNSSGDLTTNPDPQNAAEPTGTVPEQK                   EMDPGKEGPNSPQNKPPAAPVINEYADAQLHNLVKRMRQRTALYKKKLVEGDLSSPEA                    SPQTAKPTAVPPVKESDDKPTEHYYRLLWFKVKKMPLTEYLKRIKLPNSIDSYTDRLY                    LLWLLLVTLAYNWNCWFIPLRLVFPYQTADNIHYWLIADIICDIIYLYDMLFIQPRLQ                    FVRGGDIIVDSNELRKHYRTSTKFQLDVASIIPFDICYLFFGFNPMFRANRMLKYTSF                    FEFNHHLESIMDKAYIYRVIRTTGYLLFILHINACVYYWASNYEGIGTTRWVYDGEGN                     EYLRCYYWAVRTLITIGGLPEPQTLFEIVFQLLNFFSGVFVFSSLIGQMRDVIGAATA                    NQNYFRACMDDTIAYMNNYSIPKLVQKRVRTWYEYTWDSQRMLDESDLLKTLPTTVQL                    ALAIDVNFSIISKVDLFKGCDTQMIYDMLLRLKSVLYLPGDFVCKKGEIGKEMYIIKH                    GEVQVLGGPDGTKVLVTLKAGSVFGEISLLAAGGGNRRTANVVAHGFANLLTLDKKTL                    QEILVHYPDSERILMKKARVLLKQKAKTAEATPPRKDLALLFPPKEETPKLFKTLLGG                    TGKASLARLLKLKREQAAQKKENSEGGEEEGKENEDKQKENEDKQKENEDKGKENEDK                    DKGREPEEKPLDRPECTASPIAVEEEPHSVRRTVLPRGTSRQSLIISMAPSAEGGEE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TIEVKEKAKQ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mino acid 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gth: 809 a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"MFKSLTKVNKVKPIGENNENEQSSRRNEEGSHPSNQSQQTTAQE                 ENKGEEKSLKTKSTPVTSEEPHTNIQDKLSKKNSSGDLTTNPDPQNAAEPTGTVPEQK                   EMDPGKEGPNSPQNKPPAAPVINEYADAQLHNLVKRMRQRTALYKKKLVEGDLSSPEA                    SPQTAKPTAVPPVKESDDKPTEHYYRLLWFKVKKMPLTEYLKRIKLPNSIDSYTDRLY                    LLWLLLVTLAYNWNCWFIPLRLVFPYQTADNIHYWLIADIICDIIYLYDMLFIQPRLQ                    FVRGGDIIVDSNELRKHYRTSTKFQLDVASIIPFDICYLFFGFNPMFRANRMLKYTSF                    FEFNHHLESIMDKAYIYRVIRTTGYLLFILHINACVYYWASNYEGIGTTRWVYDGEGN                     EYLRCYYWAVRTLITIGGLPEPQTLFEIVFQLLNFFSGVFVFSSLIGQMRDVIGAATA                    NQNYFRACMDDTIAYMNNYSIPKLVQKRVRTWYEYTWDSQRMLDESDLLKTLPTTVQL                    ALAIDVNFSIISKVDLFKGCDTQMIYDMLLRLKSVLYLPGDFVCKKGEIGKEMYIIKH                    GEVQVLGGPDGTKVLVTLKAGSVFGEISLLAAGGGNRRTANVVAHGFANLLTLDKKTL                    QEILVHYPDSERILMKKARVLLKQKAKTAEATPPRKDLALLFPPKEETPKLFKTLLGG                    TGKASLARLLKLKREQAAQKKENSEGGEEEGKENEDKQKENEDKQKENEDKGKENEDK                    DKGREPEEKPLDRPECTASPIAVEEEPHSVRRTVLPRGTSRQSLIISMAPSAEGGE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TIEVKEKAKQ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tatio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enetic basis for achromatopsia is found on chromosome 8 (location 8q21-q22) where there is a recessive point mutation in CNGB3 that changes serine at residue 435 to phenylalanine in a highly conserved site in the S6 membrane-spanning doma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tic basis for achromatopsia is found on chromosome 8 (location 8q21-q22) where there is a recessive point mutation in CNGB3 that changes serine at residue 435 to phenylalanine in a highly conserved site in the S6 membrane-spanning doma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ibliograph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ookshelf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amir S Deeb, PhD, Arno G Motulsky, MD, “Red-Green Color Vision Defects,” GeneReviews, September 19, 2005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erg, Jeremy M. “32.3.5. Rearrangements in the Genes for the Green and Red Pigments Lead to ‘Color Blindness,’” Biochemistry 5th edition, W.H. Freeman and Company, 2002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OMIM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COLORBLINDNESS, PARTIAL, DEUTAN SERIES; CBD”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OMIM ID: 30380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PubMed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Harrison, R.; Hoefnagel, D.; Hayward, J. N.  “Congenital total color blindness.” Arch. Ophthal. 64: 685-692, 1960. PubMed ID: 13711836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otstein, D. “The molecular biology of color vision.” (Editorial) Science 232: 142-143, 1986. PubMed ID: 2937146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yniers, E.; Van Thienen, M.-N.; Meire, F.; De Boulle, K.; Devries, K.; Kestelijn, P.; Willems, P. J. “Gene conversion between red and defective green opsin gene in blue cone monochromacy.” Genomics 29: 323-328, 1995. PubMed ID: 8666378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inderickx, J.; Sanocki, E.; Lindsey, D. T.; Teller, D. Y.; Motulsky, A. G.; Deeb, S. S. 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Defective colour vision associated with a missense mutation in the human green visual pigment gene.” Nature Genet. 1: 251-256, 1992. 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PubMed ID: 1302020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bl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ookshel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amir S Deeb, PhD, Arno G Motulsky, MD, “Red-Green Color Vision Defects,” GeneReviews, September 19, 20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erg, Jeremy M. “32.3.5. Rearrangements in the Genes for the Green and Red Pigments Lead to ‘Color Blindness,’” Biochemistry 5th edition, W.H. Freeman and Company, 200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MI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LORBLINDNESS, PARTIAL, DEUTAN SERIES; CB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MIM ID: 303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bM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rrison, R.; Hoefnagel, D.; Hayward, J. N.  “Congenital total color blindness.” Arch. Ophthal. 64: 685-692, 1960. PubMed ID: 1371183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otstein, D. “The molecular biology of color vision.” (Editorial) Science 232: 142-143, 1986. PubMed ID: 293714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yniers, E.; Van Thienen, M.-N.; Meire, F.; De Boulle, K.; Devries, K.; Kestelijn, P.; Willems, P. J. “Gene conversion between red and defective green opsin gene in blue cone monochromacy.” Genomics 29: 323-328, 1995. PubMed ID: 866637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nderickx, J.; Sanocki, E.; Lindsey, D. T.; Teller, D. Y.; Motulsky, A. G.; Deeb, S. S.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ective colour vision associated with a missense mutation in the human green visual pigment gene.” Nature Genet. 1: 251-256, 1992.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bMed ID: 13020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8C94-2E43-4FFB-A154-7AF0820EE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EFA9-94C4-4EA3-8D39-728C6728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D85B-03CE-43EF-8A95-707E6113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206E-6174-4B02-B832-A64D8D21F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DFE6-C311-445C-90A1-16841D094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4142-A802-443B-9EF6-08AF9E8A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1F59-403D-418C-8AE8-E8534626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CEC9-FB4B-4D33-8A74-38D6AD9F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3E33-BFCE-46CE-9675-26E268BB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5E7C-7D60-4E4F-BB0E-670378DA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562E-45A3-45D4-8A0C-8719929F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8789-DC0C-4A23-B698-34787F4B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9035-F3CC-47ED-89D3-367696F3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B0A1-4F20-4785-83BC-F4D7ED01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ED85-D489-465E-BC8F-8C822D61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5C03-5FBF-4A7C-B399-46E77F966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62CF-19F9-42DC-A181-B8B11788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1912-313F-4040-ABE8-56DB78BE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599F-0B45-435E-8AB0-E5836833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2003-1512-4054-A75A-FCA31FE3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388D-66D4-443E-83DC-11BDEBBC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6F79-6A5E-4E87-82EC-A7448D1E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40F7-2382-4354-ABDE-739E3540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8CF5-F390-4CA6-BEC6-E66443BC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6FCC-91E2-4D8C-9E71-143C90D986A2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09BB-4D3B-4B01-BBAF-AB5A88E3DD0E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Color Blindness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ahoma"/>
              </a:rPr>
              <a:t>By Jessie W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61760" y="2438280"/>
            <a:ext cx="419076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rmally, there are three kinds of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es (each one sensitive to 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pecific range of wavelengths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re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 cones (6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en-US" sz="2000" spc="-1" strike="noStrike">
                <a:solidFill>
                  <a:srgbClr val="33cc33"/>
                </a:solidFill>
                <a:latin typeface="Tahoma"/>
              </a:rPr>
              <a:t>gree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 cones (32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blu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 cones (2%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181480" y="2666880"/>
            <a:ext cx="2895840" cy="24274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685800" y="1676520"/>
            <a:ext cx="754380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normal human retina contains two kinds of light sensitive cells: the rod cells (active only in low light) and the cone cells (active in normal daylight and responsible for color perception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WordArt 11"/>
          <p:cNvSpPr txBox="1"/>
          <p:nvPr/>
        </p:nvSpPr>
        <p:spPr>
          <a:xfrm>
            <a:off x="2666880" y="533520"/>
            <a:ext cx="39625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et there be light!!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762120" y="4876920"/>
            <a:ext cx="746748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different kinds of inherited color blindness result from partial or complete loss of function of one or more of the different cone systems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Нижний колонтитул 8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Tahoma"/>
              </a:rPr>
              <a:t>Different Types of Color Blindnes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Monochromac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ff66cc"/>
                </a:solidFill>
                <a:latin typeface="Tahoma"/>
              </a:rPr>
              <a:t> occurs when two or all three of the cone pigments are missing and color and lightness vision is reduced to one dimensi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Tahoma"/>
              </a:rPr>
              <a:t>Total color blind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Dichromac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ff66cc"/>
                </a:solidFill>
                <a:latin typeface="Tahoma"/>
              </a:rPr>
              <a:t> occurs when only one of the cone pigments is missing and color is reduced to two dimens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Tahoma"/>
              </a:rPr>
              <a:t>Partial color blind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66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red-gre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blue-yell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Tahoma"/>
              </a:rPr>
              <a:t>Total Color Blindnes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so known as </a:t>
            </a:r>
            <a:r>
              <a:rPr b="0" i="1" lang="en-US" sz="2000" spc="-1" strike="noStrike">
                <a:solidFill>
                  <a:srgbClr val="66ffff"/>
                </a:solidFill>
                <a:latin typeface="Tahoma"/>
              </a:rPr>
              <a:t>rod monochromac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66ffff"/>
                </a:solidFill>
                <a:latin typeface="Tahoma"/>
              </a:rPr>
              <a:t>complete achromatopsi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ff"/>
                </a:solidFill>
                <a:latin typeface="Tahoma"/>
              </a:rPr>
              <a:t>typical monochromac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rare, non-progressive inability to distinguish any colors as 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sult of absent or nonfunctioning retinal con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e everything as white, black, or some shade of gra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ypically caused by a missense mutation (a switched amino acid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the </a:t>
            </a:r>
            <a:r>
              <a:rPr b="0" lang="en-US" sz="2000" spc="-1" strike="noStrike">
                <a:solidFill>
                  <a:srgbClr val="66ffff"/>
                </a:solidFill>
                <a:latin typeface="Tahoma"/>
              </a:rPr>
              <a:t>CNGB3 gen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Tahoma"/>
              </a:rPr>
              <a:t>CYCLIC NUCLEOTIDE-GATED CHANNEL, BETA-3 (CNGB3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assic achromatopsia results from a complete loss of CNGB3 functi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NGB3 encodes for the beta subunit of the cone cyclic nucleotide-gated cation channel, found photoreceptor plasma membran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pon activation by cGMP, it leads to an opening of cation channels which thereby cause a depolarization of rod photoreceptors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s gene is essential for the generation of light-evoked electrical responses in con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NGB3 is not required for vital processes outside the visual system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Tahoma"/>
              </a:rPr>
              <a:t>CNGB3 Cont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human CNGB3 gene consists of 18 ex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stributed over 200 kb of genomic sequenc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Gene type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protein 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Domain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similar to ion transport prote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1545120" y="5715000"/>
            <a:ext cx="572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cc"/>
                </a:solidFill>
                <a:latin typeface="Verdana"/>
                <a:ea typeface="Times New Roman"/>
              </a:rPr>
              <a:t>Cytogenetic locus:  chromosome</a:t>
            </a:r>
            <a:r>
              <a:rPr b="0" lang="en-US" sz="1600" spc="-1" strike="noStrike">
                <a:solidFill>
                  <a:srgbClr val="ff66cc"/>
                </a:solidFill>
                <a:latin typeface="Verdana"/>
                <a:ea typeface="Times New Roman"/>
              </a:rPr>
              <a:t>: 8; </a:t>
            </a:r>
            <a:r>
              <a:rPr b="1" lang="en-US" sz="1600" spc="-1" strike="noStrike">
                <a:solidFill>
                  <a:srgbClr val="ff66cc"/>
                </a:solidFill>
                <a:latin typeface="Verdana"/>
                <a:ea typeface="Times New Roman"/>
              </a:rPr>
              <a:t>Location:</a:t>
            </a:r>
            <a:r>
              <a:rPr b="0" lang="en-US" sz="1600" spc="-1" strike="noStrike">
                <a:solidFill>
                  <a:srgbClr val="ff66cc"/>
                </a:solidFill>
                <a:latin typeface="Verdana"/>
                <a:ea typeface="Times New Roman"/>
              </a:rPr>
              <a:t> 8q21-q2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0" y="39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685800" y="4343400"/>
            <a:ext cx="7924680" cy="99072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8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Tahoma"/>
              </a:rPr>
              <a:t>Amino acid seque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Tahoma"/>
              </a:rPr>
              <a:t>Length: 809 a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66ffff"/>
                </a:solidFill>
                <a:latin typeface="Tahoma"/>
              </a:rPr>
              <a:t>"MFKSLTKVNKVKPIGENNENEQSSRRNEEGSHPSNQSQQTTAQE                 ENKGEEKSLKTKSTPVTSEEPHTNIQDKLSKKNSSGDLTTNPDPQNAAEPTGTVPEQK                   EMDPGKEGPNSPQNKPPAAPVINEYADAQLHNLVKRMRQRTALYKKKLVEGDLSSPEA                    SPQTAKPTAVPPVKESDDKPTEHYYRLLWFKVKKMPLTEYLKRIKLPNSIDSYTDRLY                    LLWLLLVTLAYNWNCWFIPLRLVFPYQTADNIHYWLIADIICDIIYLYDMLFIQPRLQ                    FVRGGDIIVDSNELRKHYRTSTKFQLDVASIIPFDICYLFFGFNPMFRANRMLKYTSF                    FEFNHHLESIMDKAYIYRVIRTTGYLLFILHINACVYYWASNYEGIGTTRWVYDGEGN                     EYLRCYYWAVRTLITIGGLPEPQTLFEIVFQLLNFFSGVFVFSSLIGQMRDVIGAATA                    NQNYFRACMDDTIAYMNNYSIPKLVQKRVRTWYEYTWDSQRMLDESDLLKTLPTTVQL                    ALAIDVNFSIISKVDLFKGCDTQMIYDMLLRLKSVLYLPGDFVCKKGEIGKEMYIIKH                    GEVQVLGGPDGTKVLVTLKAGSVFGEISLLAAGGGNRRTANVVAHGFANLLTLDKKTL                    QEILVHYPDSERILMKKARVLLKQKAKTAEATPPRKDLALLFPPKEETPKLFKTLLGG                    TGKASLARLLKLKREQAAQKKENSEGGEEEGKENEDKQKENEDKQKENEDKGKENEDK                    DKGREPEEKPLDRPECTASPIAVEEEPHSVRRTVLPRGTSRQSLIISMAPSAEGGEE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66ffff"/>
                </a:solidFill>
                <a:latin typeface="Tahoma"/>
              </a:rPr>
              <a:t>LTIEVKEKAKQ"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Tahoma"/>
              </a:rPr>
              <a:t>Mutation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2667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The genetic basis for achromatopsia is found on chromosome 8 (location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q21-q22</a:t>
            </a: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) where there is a recessive point mutation in CNGB3 that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anges serine at residue 435 to phenylalanine</a:t>
            </a: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 in a highly conserved site in the S6 membrane-spanning domain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581280" y="144792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146" name="Нижний колонтитул 6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Tahoma"/>
              </a:rPr>
              <a:t>Bibliograph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Bookshelf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amir S Deeb, PhD, Arno G Motulsky, MD, “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Red-Green Color Vision Defects,”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GeneReviews, September 19, 2005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erg, Jeremy M.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“32.3.5. Rearrangements in the Genes for the Green and Red Pigments Lead to ‘Color Blindness,’”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Biochemistry 5th edition, W.H. Freeman and Company, 2002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OMIM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LORBLINDNESS, PARTIAL, DEUTAN SERIES; CBD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MIM ID: 3038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PubMed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arrison, R.; Hoefnagel, D.; Hayward, J. N.  “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Congenital total color blindness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.”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Arch. Ophthal.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64: 685-692, 1960. PubMed ID: 13711836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otstein, D. “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The molecular biology of color vision.”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(Editorial) </a:t>
            </a:r>
            <a:r>
              <a:rPr b="0" i="1" lang="nl-NL" sz="1400" spc="-1" strike="noStrike">
                <a:solidFill>
                  <a:srgbClr val="ffffff"/>
                </a:solidFill>
                <a:latin typeface="Tahoma"/>
              </a:rPr>
              <a:t>Science </a:t>
            </a: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232: 142-143, 1986. PubMed ID: 2937146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Reyniers, E.; Van Thienen, M.-N.; Meire, F.; De Boulle, K.; Devries, K.; Kestelijn, P.; Willems, P. J. </a:t>
            </a:r>
            <a:r>
              <a:rPr b="0" lang="nl-NL" sz="1400" spc="-1" strike="noStrike" u="sng">
                <a:solidFill>
                  <a:srgbClr val="ffffff"/>
                </a:solidFill>
                <a:uFillTx/>
                <a:latin typeface="Tahoma"/>
              </a:rPr>
              <a:t>“Gene conversion between red and defective green opsin gene in blue cone monochromacy.”</a:t>
            </a:r>
            <a:r>
              <a:rPr b="1" lang="nl-NL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Genomics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9: 323-328, 1995. PubMed ID: 8666378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inderickx, J.; Sanocki, E.; Lindsey, D. T.; Teller, D. Y.; Motulsky, A. G.; Deeb, S. S. :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“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Defective colour vision associated with a missense mutation in the human green visual pigment gene.”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Nature Genet.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: 251-256, 1992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ubMed ID: 1302020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00:21:55Z</dcterms:created>
  <dc:creator>Jessie Wright</dc:creator>
  <dc:description/>
  <dc:language>en-US</dc:language>
  <cp:lastModifiedBy>LEGION</cp:lastModifiedBy>
  <dcterms:modified xsi:type="dcterms:W3CDTF">2018-03-22T08:41:49Z</dcterms:modified>
  <cp:revision>18</cp:revision>
  <dc:subject/>
  <dc:title>Color Blindness</dc:title>
</cp:coreProperties>
</file>